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2955-EC10-4127-83B0-BC18DEFD0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AA7FC-5381-4F43-9FEC-DF22E40AE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A0E38-F8A6-4E8A-96C9-374FC7516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9D5B-A900-498F-B82A-91BCF2C47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34DF5-E315-42BB-A260-4942CDBB72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FC4B7-19E8-4743-B5E1-96A3677B49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9C90B-4C07-4017-8208-C067C50F03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2237F-2F57-4621-B220-A6BF8AA832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4EF69-81FC-4E8A-B132-A165F3AAA7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42B3E-6222-46C1-87C8-E0773C579C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68E3D-6BB9-4AAE-BBB6-8671A6158B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B5918-9D78-4CA9-BA64-BB75B229B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418DF-48AC-4CFF-BAD3-1ECC1DF568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780E4-CE53-4424-B889-B0AEF2D6B3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DEBC3-2292-40B2-ACF1-0F79350E4A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7CA9C-655B-48FA-84D3-F468849F6E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6AD3AA-E744-49DE-BA11-8D8091D66A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44B00-AA99-41E6-9C0E-4179392F3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F2287-AB0E-494C-9740-6FAC70635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87B5C-1124-4777-928C-04605A1DA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BB36-64A4-47FD-9E1D-A85C73592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CC943-6779-4AC5-B85E-68A1F1CDF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105E-B04B-4B11-A6FE-710B5718E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9D51-C85B-47CD-8C09-A689D60D6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1B51-7862-460C-B9BB-A0BC8C72FB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BEDA-B156-4FCA-A2DB-E9D7E7E0569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Using the Diagram It Templat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py this presentation to your hard dr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re are two sets of templat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lides #3 &amp; 4 for a flow chart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lides #5 &amp; 6 for a components exercis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en up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slide sorte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copy either set of slides for each diagram you are going to construc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o to the first slide of the set and enter the text of the starting te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16680" indent="-2372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o to the second slide of the set and put the answer text in each box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lete this slide (slide #1) after you are don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ve this fi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te: You may also use your own symbols or design your own diagram for your exercis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a60b4"/>
                </a:solidFill>
                <a:latin typeface="Tahoma"/>
              </a:rPr>
              <a:t>DIAGRAM IT!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362320" y="2817720"/>
            <a:ext cx="4876560" cy="4040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0b4"/>
                </a:solidFill>
                <a:latin typeface="Tahoma"/>
              </a:rPr>
              <a:t>Enter Text for the Title of the Exercis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295280" y="1295280"/>
            <a:ext cx="6248520" cy="1371600"/>
          </a:xfrm>
          <a:prstGeom prst="parallelogram">
            <a:avLst>
              <a:gd name="adj" fmla="val 113891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ter Text for the Title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Flowchar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2971800"/>
            <a:ext cx="2743200" cy="144792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1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2971800"/>
            <a:ext cx="2666880" cy="144792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2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77120" y="2971800"/>
            <a:ext cx="2438280" cy="144792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3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5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4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77120" y="4876920"/>
            <a:ext cx="24382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6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266688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36576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36576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54864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54864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4648320"/>
            <a:ext cx="609624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4648320"/>
            <a:ext cx="0" cy="22860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0120" y="4419720"/>
            <a:ext cx="0" cy="2286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014240" y="2133720"/>
            <a:ext cx="1622520" cy="577080"/>
          </a:xfrm>
          <a:prstGeom prst="rect">
            <a:avLst/>
          </a:prstGeom>
          <a:noFill/>
          <a:ln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0b4"/>
                </a:solidFill>
                <a:latin typeface="Tahoma"/>
              </a:rPr>
              <a:t>Enter Text for the Title of the Exercis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371600"/>
            <a:ext cx="6477120" cy="1371600"/>
          </a:xfrm>
          <a:prstGeom prst="parallelogram">
            <a:avLst>
              <a:gd name="adj" fmla="val 118058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Enter Text for Title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f the Flowchar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048120"/>
            <a:ext cx="274320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1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ter text fo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30481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2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ter text fo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3048120"/>
            <a:ext cx="24382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3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ter text fo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5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ter text for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5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4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ter text for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4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77120" y="4876920"/>
            <a:ext cx="24382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6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ter text fo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6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274320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8120" y="36576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6576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54864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8120" y="54864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0120" y="4495680"/>
            <a:ext cx="0" cy="15264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4648320"/>
            <a:ext cx="609624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4648320"/>
            <a:ext cx="0" cy="22860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9600" y="64008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for next slid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60b4"/>
                </a:solidFill>
                <a:latin typeface="Tahoma"/>
              </a:rPr>
              <a:t>Enter Text for the Title of the Exercis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3505320"/>
            <a:ext cx="289584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Enter Topic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ext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1905120"/>
            <a:ext cx="266724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3200400"/>
            <a:ext cx="0" cy="304920"/>
          </a:xfrm>
          <a:prstGeom prst="line">
            <a:avLst/>
          </a:prstGeom>
          <a:ln cap="sq"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01480" y="1981080"/>
            <a:ext cx="1736640" cy="520560"/>
          </a:xfrm>
          <a:prstGeom prst="rect">
            <a:avLst/>
          </a:prstGeom>
          <a:noFill/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Arial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5334120"/>
            <a:ext cx="266688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495680" y="502884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601956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60b4"/>
                </a:solidFill>
                <a:latin typeface="Tahoma"/>
              </a:rPr>
              <a:t>Enter Text for the Title of the Exercis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505320"/>
            <a:ext cx="289584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Topic Text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1905120"/>
            <a:ext cx="266724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ter Tex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3200400"/>
            <a:ext cx="0" cy="304920"/>
          </a:xfrm>
          <a:prstGeom prst="line">
            <a:avLst/>
          </a:prstGeom>
          <a:ln cap="sq"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ter Tex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ter Tex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334120"/>
            <a:ext cx="266688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nter tex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495680" y="502884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9548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01956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27720" y="60958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for next slid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21:52:41Z</dcterms:created>
  <dc:creator>Dianne Jones</dc:creator>
  <dc:description/>
  <dc:language>en-US</dc:language>
  <cp:lastModifiedBy>dmungai</cp:lastModifiedBy>
  <dcterms:modified xsi:type="dcterms:W3CDTF">2002-06-22T22:45:50Z</dcterms:modified>
  <cp:revision>14</cp:revision>
  <dc:subject/>
  <dc:title>LABEL A DIAGRAM</dc:title>
</cp:coreProperties>
</file>